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BA4-48C9-461F-98D2-59A07F57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D4B-479B-43EB-BFB8-0F15E7D3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EE9-ACB7-43EA-8D1F-92B0DA5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33D-30A9-4C54-A899-8FCD0CE1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C99-A2E2-4591-9D39-67256ED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A5E-1951-4390-ADE5-F6B12CD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506-18E2-45D0-AD3F-28EA164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90A-7FFE-4F67-8E41-55D9DF1B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AD5-1ACA-4C51-B8CC-73204B10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CA6-BD4D-49EB-AE96-A18D591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B19-316E-49BA-9CBD-F5E06E3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4AB-C468-46B0-A7DA-374769E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AA4-792C-4E0E-B091-D18947161E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З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НАГРУ…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НО…КИ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990720" y="4876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КОЛО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МОРО…НЫЙ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ЗАМА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СО..КА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97180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85800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6858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Ш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ПОДРУ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ИЗБУ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990720" y="4876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МАЛЫ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ОРЕ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КИ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ДОРО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НО…КИ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97180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6668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97180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640080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Б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ТРО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ПРО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990720" y="4876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ВЫСТУ…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СТОЛ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ТЕЛЕСКО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СУГРО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78168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69343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В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ШАР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ЖИРА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90720" y="4876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ЛА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СЕЙ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КЛЮ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ШКА…ЧИК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28600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66294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Д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ОТМЕ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ТУРИС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9907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АКРОБА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МЕДВЕ…Ь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РЕ…К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ЗАГА…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67057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701028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1722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НАЯ  СОГЛАС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В  КАКИХ СЛОВАХ  ПИШЕТСЯ  «Г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91440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 КО…ТИ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99072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 ДОМИ…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990720" y="4876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 ЛЕ…К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8769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 РЫБА…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4952880" y="373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 МЯ…КИЙ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4952880" y="4952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 ВОЖА…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20968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228600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24852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3:10:1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